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415-6D4B-49FB-8198-C28B8561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B6B-2BCE-46B0-8D9E-8ABD0B6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234-6452-4243-8EE4-CCC4C245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442-EF07-45F0-9707-659C416E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AFF-AC76-439E-8B54-EF24EE77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B97-AE6A-4D70-B39E-3BC08E3A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8ED-1DCC-4266-BA54-AB27AE12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F90-6675-4ECA-B37D-556B10C1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8EC-1A2F-4CD2-B024-84158549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6AA-97CC-4278-BF7E-FA3B1A90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CF6-DDA3-4503-BD6B-DF8217E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C45-46B8-429C-9AF2-7B9295CE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8537-910A-4345-A4DE-85F8ED5A7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Пришкіль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оздоровч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таб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7" descr="http://sh32.klasna.com/uploads/editor/3465/334762/sitepage_80/images/dscn5289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1494600">
            <a:off x="6271920" y="4213080"/>
            <a:ext cx="2360520" cy="21337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Monotype Corsiva"/>
              </a:rPr>
              <a:t>Фізичний розви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мнастика, змагання, пішохідні екскурс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ухливі іг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23960" cy="139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598000">
            <a:off x="457200" y="3123720"/>
            <a:ext cx="3441600" cy="2968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1126200">
            <a:off x="5181120" y="3200400"/>
            <a:ext cx="3353040" cy="29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238880" y="152280"/>
            <a:ext cx="1600200" cy="15242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Monotype Corsiva"/>
              </a:rPr>
              <a:t>Пізнавальний розви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криття різноманіття і кра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очуючого сві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читися бути відповідаль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20601600">
            <a:off x="380880" y="3276360"/>
            <a:ext cx="4267440" cy="284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072200">
            <a:off x="4723920" y="3428640"/>
            <a:ext cx="3962520" cy="26575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Естетичн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Через музику, книгу, живопи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відвідування музеїв, кінотеа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86" descr="http://sh32.klasna.com/uploads/editor/3465/334762/sitepage_80/images/dscn5389.jpg"/>
          <p:cNvPicPr/>
          <p:nvPr/>
        </p:nvPicPr>
        <p:blipFill>
          <a:blip r:embed="rId1"/>
          <a:stretch/>
        </p:blipFill>
        <p:spPr>
          <a:xfrm rot="20709000">
            <a:off x="380880" y="2514600"/>
            <a:ext cx="2800440" cy="2562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3" descr="http://sh32.klasna.com/uploads/editor/3465/334762/sitepage_80/images/img_2322.jpg"/>
          <p:cNvPicPr/>
          <p:nvPr/>
        </p:nvPicPr>
        <p:blipFill>
          <a:blip r:embed="rId2"/>
          <a:stretch/>
        </p:blipFill>
        <p:spPr>
          <a:xfrm rot="1200000">
            <a:off x="5791320" y="2590920"/>
            <a:ext cx="2868480" cy="21524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6" descr="http://sh32.klasna.com/uploads/editor/3465/334762/sitepage_80/images/dscn5418.jpg"/>
          <p:cNvPicPr/>
          <p:nvPr/>
        </p:nvPicPr>
        <p:blipFill>
          <a:blip r:embed="rId3"/>
          <a:stretch/>
        </p:blipFill>
        <p:spPr>
          <a:xfrm rot="1461600">
            <a:off x="3048120" y="3505320"/>
            <a:ext cx="3276360" cy="28764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Творч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тупи на концертах,участь у змаганн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курсах, заняття в гурт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96" descr="http://sh32.klasna.com/uploads/editor/3465/334762/sitepage_80/images/dscn5418.jpg"/>
          <p:cNvPicPr/>
          <p:nvPr/>
        </p:nvPicPr>
        <p:blipFill>
          <a:blip r:embed="rId1"/>
          <a:stretch/>
        </p:blipFill>
        <p:spPr>
          <a:xfrm>
            <a:off x="1066680" y="2362320"/>
            <a:ext cx="7391520" cy="41907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Monotype Corsiva"/>
              </a:rPr>
              <a:t>Екологічн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байливе ставлення до природи, піклування про рослин, участь у трудовій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4" descr="http://sh32.klasna.com/uploads/editor/3465/334762/sitepage_80/images/dscn5278.jpg"/>
          <p:cNvPicPr/>
          <p:nvPr/>
        </p:nvPicPr>
        <p:blipFill>
          <a:blip r:embed="rId1"/>
          <a:stretch/>
        </p:blipFill>
        <p:spPr>
          <a:xfrm rot="21173400">
            <a:off x="380520" y="2971440"/>
            <a:ext cx="3276720" cy="31813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2" descr="http://sh32.klasna.com/uploads/editor/3465/334762/sitepage_80/images/dscn5275.jpg"/>
          <p:cNvPicPr/>
          <p:nvPr/>
        </p:nvPicPr>
        <p:blipFill>
          <a:blip r:embed="rId2"/>
          <a:stretch/>
        </p:blipFill>
        <p:spPr>
          <a:xfrm rot="458400">
            <a:off x="5409720" y="30481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Закони табор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Закону - правило неухильного дотримання всіх законів, що діють у табо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Території – не виходити за територію школи без дозволу вихователя, не заважати роботі іншого заг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Часу – не спізнюват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Ввічливості та поваги у ставленні до дорослих і друз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Дружби – підтримка і взаємовиручка. Один за всіх і всі за од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Зелені – бережно відноситись до прир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Дисципліни – бути дисциплінованим, дотримуватись правил техніки безпеки на екскурсіях, правил дорожнього руху і пожежної безпе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іти, дружно по порядку, всі вставайте на заряд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20" descr="http://sh32.klasna.com/uploads/editor/3465/334762/sitepage_80/images/img_2285.jpg"/>
          <p:cNvPicPr/>
          <p:nvPr/>
        </p:nvPicPr>
        <p:blipFill>
          <a:blip r:embed="rId1"/>
          <a:stretch/>
        </p:blipFill>
        <p:spPr>
          <a:xfrm rot="20530800">
            <a:off x="685440" y="350496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904200">
            <a:off x="4190760" y="1980720"/>
            <a:ext cx="4419360" cy="27082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Лінійка в табор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91" descr="http://sh32.klasna.com/uploads/editor/3465/334762/sitepage_80/images/dscn5400.jpg"/>
          <p:cNvPicPr/>
          <p:nvPr/>
        </p:nvPicPr>
        <p:blipFill>
          <a:blip r:embed="rId1"/>
          <a:stretch/>
        </p:blipFill>
        <p:spPr>
          <a:xfrm>
            <a:off x="380880" y="9907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8" descr="http://sh32.klasna.com/uploads/editor/3465/334762/sitepage_80/images/dscn5405.jpg"/>
          <p:cNvPicPr/>
          <p:nvPr/>
        </p:nvPicPr>
        <p:blipFill>
          <a:blip r:embed="rId2"/>
          <a:stretch/>
        </p:blipFill>
        <p:spPr>
          <a:xfrm>
            <a:off x="4876920" y="3352680"/>
            <a:ext cx="3809880" cy="28958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685800" y="-53416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1. м.Кіровоград КЗНВО ЗНЗ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ст. №1 ДЮЦ «Перли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Джерельц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Галюк 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2. м. Кіровоград НВО №32 «Школа мистецт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Весе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Крамаренко Анастас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3. м. Кіровоград ЗОШ №4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Орлят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Твердоступ Дар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’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Старовотенко Тет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4. м. Миколаїв Арбузинсько р-ну Арбузинська ЗОШ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ст. №2  Табір «Бригант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Дмитришина Ганн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Monotype Corsiva"/>
              </a:rPr>
              <a:t>Всі за стіл, дізнатись час:  на сніданок що у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9528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Враж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ходивши практику в школі, нам дуже сподобалося. Застосували набуті знання у практиці, отримали новий досвід у роботі з ді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никли такі труднощі я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гін  складав різний вік дітей та різний матеріальний стан кожної сі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сока неорганізованість бать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 намагалися проводити різноманітні заходи, враховуючи вікові та індивідуальні особливості дітей, їхні можливості, нахили, інтереси, здібності, а також всі напрями виховання, щоб формувати всебічно-розвинену, гармонічну особист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всі розмаїття заходів, змістовну роботу, наявний досвід роботи з дітьми, ми щиро вдячні викладачам шкі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зентацію виконал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уденти 36 групи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акультету педагогіки та психолог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Крамаренко Анастасі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Твердоступ Дар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Галюк Кате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Старовотенко Тетя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Дмитришина Ган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33cc"/>
                </a:solidFill>
                <a:latin typeface="Monotype Corsiva"/>
              </a:rPr>
              <a:t>М Е Т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ити умови для реалізації права кожної дитини на повноцінний відпочи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увати оздоровлення дітей в табор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систематичні заняття дітей фізичною культуро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рияти формуванню навичок здорового способу житт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змістовне дозвіл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ити умови для розвитку творчих здібностей ді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ти цілеспрямований інтерес до історії, традицій, екології рідного кр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cc"/>
                </a:solidFill>
                <a:latin typeface="Monotype Corsiva"/>
              </a:rPr>
              <a:t>З А В Д А Н Н Я</a:t>
            </a: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увати активний та безпе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починок ді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цнювати здо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 школярів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виконання дітьми режиму дня, правильне чергування фізичних, емоційних навантажень протягом дня і всього пері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дати реальну допомогу кожній дитині у розвитку позитивних якостей, необхідних для повноцінного життя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ти цілеспрямований інтерес до історії , традицій, екології рідного краю , до вивчення довкіл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cc"/>
                </a:solidFill>
                <a:latin typeface="Monotype Corsiva"/>
              </a:rPr>
              <a:t>Очікувані резуль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еншення захворюваності ді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рівня травматиз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вищення рівня розвитку комунікаційних здібностей учнів, їхньої творчої активності , рівня вихованості і якості зн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ширення кругозору, підвищення рівня знань про історію, традиції рідного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cc"/>
                </a:solidFill>
                <a:latin typeface="Monotype Corsiva"/>
              </a:rPr>
              <a:t>Обов’язкові передумови роботи табор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фективне використання природних ресурс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алансоване харч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ітке дотримання у таборі встановлених санітарно – гігієнічних н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лежна організація фізкультурно – оздоровчої роб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тримання режиму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иток соціальної активності ді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зноманітні виховні за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Monotype Corsiva"/>
              </a:rPr>
              <a:t>Виховна робота в таборах передбача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уманізацію виховн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чний з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ок з національною історією, культурою, традиціями рідного кра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алізацію інтересів, запитів, індивідуальних здібностей уч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півробітництво з закладами культури, дитячими позашкільни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безпечення елементів ігрової діяльн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3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4" descr="http://sh32.klasna.com/uploads/editor/3465/334762/sitepage_80/images/dscn5278.jpg"/>
          <p:cNvPicPr/>
          <p:nvPr/>
        </p:nvPicPr>
        <p:blipFill>
          <a:blip r:embed="rId1"/>
          <a:stretch/>
        </p:blipFill>
        <p:spPr>
          <a:xfrm rot="20492400">
            <a:off x="304920" y="6094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3" descr="http://sh32.klasna.com/uploads/editor/3465/334762/sitepage_80/images/dscn5277.jpg"/>
          <p:cNvPicPr/>
          <p:nvPr/>
        </p:nvPicPr>
        <p:blipFill>
          <a:blip r:embed="rId2"/>
          <a:stretch/>
        </p:blipFill>
        <p:spPr>
          <a:xfrm rot="1120200">
            <a:off x="5028840" y="609480"/>
            <a:ext cx="3600360" cy="3399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5" descr="http://sh32.klasna.com/uploads/editor/3465/334762/sitepage_80/images/dscn5280.jpg"/>
          <p:cNvPicPr/>
          <p:nvPr/>
        </p:nvPicPr>
        <p:blipFill>
          <a:blip r:embed="rId3"/>
          <a:stretch/>
        </p:blipFill>
        <p:spPr>
          <a:xfrm rot="465000">
            <a:off x="1066680" y="3580920"/>
            <a:ext cx="3657600" cy="28004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я</cp:lastModifiedBy>
  <dcterms:modified xsi:type="dcterms:W3CDTF">2012-09-20T20:13:3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